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Pie%20Jesu%20Domine-Monty%20Python.wav" ContentType="audio/x-wav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sneeze%5B1%5D.wav" ContentType="audio/x-wav"/>
  <Override PartName="/ppt/media/Bring%20out%20your%20dead%20-%20Monty%20Python.wav" ContentType="audio/x-wav"/>
  <Override PartName="/ppt/media/image16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c79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c79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c7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9c79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c79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c79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9c79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9c79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c79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c79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9c7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Pie%20Jesu%20Domine-Monty%20Python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Bring%20out%20your%20dead%20-%20Monty%20Python.wav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file:///tmp/home/.config/libreoffice/4/user/gallery/Bring%20out%20your%20dead%20-%20Monty%20Python.wav" TargetMode="External"/><Relationship Id="rId5" Type="http://schemas.microsoft.com/office/2007/relationships/media" Target="file:///tmp/home/.config/libreoffice/4/user/gallery/Bring%20out%20your%20dead%20-%20Monty%20Python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neeze%5B1%5D.wav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523880" y="5335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The Black Death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52680" y="4191120"/>
            <a:ext cx="2819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Nosferatu"/>
              </a:rPr>
              <a:t>1347 - 135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Nosferatu"/>
              <a:ea typeface="Nosferatu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1095120" cy="1181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7400" y="5334120"/>
            <a:ext cx="52578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Ms. Susan M. Pojer</a:t>
            </a:r>
            <a:br>
              <a:rPr sz="2400"/>
            </a:br>
            <a:r>
              <a:rPr b="1" lang="en-US" sz="2400" spc="-1" strike="noStrike">
                <a:solidFill>
                  <a:srgbClr val="ffe8a9"/>
                </a:solidFill>
                <a:latin typeface="Nosferatu"/>
              </a:rPr>
              <a:t>Horace Greeley HS    Chappaqua,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15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15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33720" y="1752480"/>
            <a:ext cx="5105160" cy="29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286000" y="5149800"/>
            <a:ext cx="4952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Nosferatu"/>
              </a:rPr>
              <a:t>Bring out your dead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remove" presetClass="entr" presetID="22" presetSubtype="8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ing%20out%20your%20dead%20-%20Monty%20Pyth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8f8f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2543400" cy="207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495680" y="1523880"/>
            <a:ext cx="3473640" cy="4329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284840" y="4529160"/>
            <a:ext cx="259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n obsession </a:t>
            </a:r>
            <a:br>
              <a:rPr sz="2800"/>
            </a:b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eath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474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44444E-006 L 0.19427 0.18194 E">
                                      <p:cBhvr>
                                        <p:cTn id="17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080" y="838080"/>
            <a:ext cx="7315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532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Boccaccio in </a:t>
            </a:r>
            <a:r>
              <a:rPr b="1" i="1" lang="en-US" sz="4800" spc="-1" strike="noStrike">
                <a:solidFill>
                  <a:srgbClr val="c0c0c0"/>
                </a:solidFill>
                <a:latin typeface="Nosferatu"/>
              </a:rPr>
              <a:t>The Decamer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71296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Nosferatu"/>
              </a:rPr>
              <a:t>The victims ate lunch with their friends and dinner with their ances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6238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Danse Maca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5181840" cy="3902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467840" cy="6051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doctor's rob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143000" y="1828800"/>
            <a:ext cx="204480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685800" y="55627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A Doctor’s 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1728" t="2621" r="1510" b="3010"/>
          <a:stretch/>
        </p:blipFill>
        <p:spPr>
          <a:xfrm>
            <a:off x="4114800" y="2438280"/>
            <a:ext cx="4267080" cy="2743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800600" y="53341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Leech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3808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257800"/>
            <a:ext cx="7924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Comic Sans MS"/>
              </a:rPr>
              <a:t>Flagellanti:</a:t>
            </a:r>
            <a:br>
              <a:rPr sz="3600"/>
            </a:br>
            <a:r>
              <a:rPr b="1" lang="en-US" sz="3200" spc="-1" strike="noStrike">
                <a:solidFill>
                  <a:srgbClr val="ffe8a9"/>
                </a:solidFill>
                <a:latin typeface="Comic Sans MS"/>
              </a:rPr>
              <a:t>Self-inflicted “penance” for our s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867640" cy="3319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ttempts to Stop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219320"/>
            <a:ext cx="5791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3300"/>
                </a:solidFill>
                <a:latin typeface="Comic Sans MS"/>
              </a:rPr>
              <a:t>Pograms</a:t>
            </a:r>
            <a:r>
              <a:rPr b="1" i="1" lang="en-US" sz="3400" spc="-1" strike="noStrike">
                <a:solidFill>
                  <a:srgbClr val="faf400"/>
                </a:solidFill>
                <a:latin typeface="Comic Sans MS"/>
              </a:rPr>
              <a:t> </a:t>
            </a:r>
            <a:r>
              <a:rPr b="1" lang="en-US" sz="3400" spc="-1" strike="noStrike">
                <a:solidFill>
                  <a:srgbClr val="ffe8a9"/>
                </a:solidFill>
                <a:latin typeface="Comic Sans MS"/>
              </a:rPr>
              <a:t>against the Jew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040" y="2046240"/>
            <a:ext cx="2712960" cy="3657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78280" y="5813280"/>
            <a:ext cx="18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Jew”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2351160"/>
            <a:ext cx="4343400" cy="2344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724280" y="5029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Golden Circle” obligatory ba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1840" y="3570120"/>
            <a:ext cx="228600" cy="1447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3798360"/>
            <a:ext cx="1143000" cy="12193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361960" y="4789080"/>
            <a:ext cx="22860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14400" y="5335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Death Triumphant !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Major Artistic Th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1451" r="1408" b="0"/>
          <a:stretch/>
        </p:blipFill>
        <p:spPr>
          <a:xfrm>
            <a:off x="1905120" y="2368440"/>
            <a:ext cx="5333760" cy="372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666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066680"/>
            <a:ext cx="693396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 sickly season,” the merchant sai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The town I left was filled with dea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and everywhere these queer red flies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crawled upon the corpses’ eye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eating them away.”</a:t>
            </a:r>
            <a:br>
              <a:rPr sz="3100"/>
            </a:b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Fair make you sick,” the merchant said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“They crawled upon the wine and bread.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Pale priests with oil and b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bulging eyes and crazy looks,</a:t>
            </a:r>
            <a:br>
              <a:rPr sz="3100"/>
            </a:br>
            <a:r>
              <a:rPr b="1" lang="en-US" sz="3100" spc="-1" strike="noStrike">
                <a:solidFill>
                  <a:srgbClr val="ff532b"/>
                </a:solidFill>
                <a:latin typeface="Nosferatu"/>
              </a:rPr>
              <a:t>dropping like the flies.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952880" y="2063880"/>
            <a:ext cx="350532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051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Culpr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6803" t="15997" r="5201" b="18001"/>
          <a:stretch/>
        </p:blipFill>
        <p:spPr>
          <a:xfrm>
            <a:off x="1295280" y="1523880"/>
            <a:ext cx="2667240" cy="1600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" descr="Black rat"/>
          <p:cNvPicPr/>
          <p:nvPr/>
        </p:nvPicPr>
        <p:blipFill>
          <a:blip r:embed="rId4"/>
          <a:stretch/>
        </p:blipFill>
        <p:spPr>
          <a:xfrm>
            <a:off x="1905120" y="434340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114800" y="2209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333760" y="411480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30492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295280"/>
            <a:ext cx="7315200" cy="86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I had to laugh,” the merchant sai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 doctors purged, and dosed, and bled;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And proved through solemn disputation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 cause lay in some constellation.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Then they began to die.”</a:t>
            </a:r>
            <a:br>
              <a:rPr sz="3200"/>
            </a:br>
            <a:br>
              <a:rPr sz="800"/>
            </a:br>
            <a:br>
              <a:rPr sz="800"/>
            </a:br>
            <a:r>
              <a:rPr b="1" lang="en-US" sz="3200" spc="-1" strike="noStrike">
                <a:solidFill>
                  <a:srgbClr val="faf400"/>
                </a:solidFill>
                <a:latin typeface="Nosferatu"/>
              </a:rPr>
              <a:t>“First they sneezed,”</a:t>
            </a: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 the merchant sai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“And then they turned the brightest red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Begged for water, then fell back.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With bulging eyes and face turned black,</a:t>
            </a:r>
            <a:br>
              <a:rPr sz="3200"/>
            </a:br>
            <a:r>
              <a:rPr b="1" lang="en-US" sz="3200" spc="-1" strike="noStrike">
                <a:solidFill>
                  <a:srgbClr val="ff532b"/>
                </a:solidFill>
                <a:latin typeface="Nosferatu"/>
              </a:rPr>
              <a:t>they waited for the fli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4572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A Little Macabre Ditty (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371600"/>
            <a:ext cx="73152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</a:t>
            </a: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I came away,” the merchant said,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You can’t do business with the dead.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So I’ve come here to ply my trade.</a:t>
            </a:r>
            <a:br>
              <a:rPr sz="3400"/>
            </a:br>
            <a:r>
              <a:rPr b="1" lang="en-US" sz="3400" spc="-1" strike="noStrike">
                <a:solidFill>
                  <a:srgbClr val="ff532b"/>
                </a:solidFill>
                <a:latin typeface="Nosferatu"/>
              </a:rPr>
              <a:t>“You’ll find this to be a fine brocade…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481500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532b"/>
                </a:solidFill>
                <a:latin typeface="Nosferatu"/>
              </a:rPr>
              <a:t>And then he</a:t>
            </a:r>
            <a:r>
              <a:rPr b="1" lang="en-US" sz="4800" spc="-1" strike="noStrike">
                <a:solidFill>
                  <a:srgbClr val="ff0000"/>
                </a:solidFill>
                <a:latin typeface="Nosferatu"/>
              </a:rPr>
              <a:t> </a:t>
            </a:r>
            <a:r>
              <a:rPr b="1" lang="en-US" sz="4800" spc="-1" strike="noStrike">
                <a:solidFill>
                  <a:srgbClr val="faf400"/>
                </a:solidFill>
                <a:latin typeface="Nosferatu"/>
              </a:rPr>
              <a:t>sneezed……….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2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eeze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Nosferatu"/>
              </a:rPr>
              <a:t>The Mortality R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Nosferatu"/>
              </a:rPr>
              <a:t>35% - 7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495680"/>
            <a:ext cx="6248520" cy="2104920"/>
          </a:xfrm>
          <a:prstGeom prst="rect">
            <a:avLst/>
          </a:prstGeom>
          <a:noFill/>
          <a:ln w="12600">
            <a:solidFill>
              <a:srgbClr val="faf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Nosferatu"/>
              </a:rPr>
              <a:t>25,000,000 dead 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92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192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192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609480"/>
            <a:ext cx="7619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What were the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political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economic,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and social effects</a:t>
            </a: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Nosferatu"/>
              </a:rPr>
              <a:t>of the Black Death?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5280" y="30492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Famine of 1315-13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429000" cy="1960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85800" y="1432080"/>
            <a:ext cx="77724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By 1300 Europeans were farming almost all the land they could cultiva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 population crisis develop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Climate changes in Europe produced three years of crop failures between 1315-17 because of excessive r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As many as 15% of the peasants in some English villages di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100000"/>
              </a:lnSpc>
              <a:buClr>
                <a:srgbClr val="ff33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One consequence of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starvation &amp; poverty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was susceptibility to</a:t>
            </a:r>
            <a:br>
              <a:rPr sz="2500"/>
            </a:br>
            <a:r>
              <a:rPr b="1" lang="en-US" sz="2500" spc="-1" strike="noStrike">
                <a:solidFill>
                  <a:srgbClr val="ffe8a9"/>
                </a:solidFill>
                <a:latin typeface="Comic Sans MS"/>
              </a:rPr>
              <a:t>disea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395280"/>
            <a:ext cx="65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1347:  Plague Reaches Constantinop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0" t="5687" r="0" b="7112"/>
          <a:stretch/>
        </p:blipFill>
        <p:spPr>
          <a:xfrm>
            <a:off x="1523880" y="2246400"/>
            <a:ext cx="6172200" cy="383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5120" y="45720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Sympto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581280" cy="248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476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343400" y="2362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Bulb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124080" y="266688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2120" y="4800600"/>
            <a:ext cx="3504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a9"/>
                </a:solidFill>
                <a:latin typeface="Comic Sans MS"/>
              </a:rPr>
              <a:t>Septicemic Form:</a:t>
            </a:r>
            <a:br>
              <a:rPr sz="2800"/>
            </a:br>
            <a:r>
              <a:rPr b="1" lang="en-US" sz="2400" spc="-1" strike="noStrike">
                <a:solidFill>
                  <a:srgbClr val="ffe8a9"/>
                </a:solidFill>
                <a:latin typeface="Comic Sans MS"/>
              </a:rPr>
              <a:t>almost 100% mortality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809880" y="5257440"/>
            <a:ext cx="35053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57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From the </a:t>
            </a:r>
            <a:r>
              <a:rPr b="1" i="1" lang="en-US" sz="4800" spc="-1" strike="noStrike">
                <a:solidFill>
                  <a:srgbClr val="ffffff"/>
                </a:solidFill>
                <a:latin typeface="Nosferatu"/>
              </a:rPr>
              <a:t>Toggenburg Bible</a:t>
            </a: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, 14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371600" y="1684440"/>
            <a:ext cx="6553080" cy="4411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3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Lancing a Bub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230640" cy="4648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7400" y="380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The Disease Cy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676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drinks rat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that carries the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 bacte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105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 clogged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with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676520"/>
            <a:ext cx="281952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multipl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’s gu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105520"/>
            <a:ext cx="2819160" cy="914400"/>
          </a:xfrm>
          <a:prstGeom prst="rect">
            <a:avLst/>
          </a:prstGeom>
          <a:solidFill>
            <a:srgbClr val="0000b2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0000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Flea bites human an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regurgitates blood </a:t>
            </a:r>
            <a:br>
              <a:rPr sz="1800"/>
            </a:br>
            <a:r>
              <a:rPr b="1" lang="en-US" sz="1800" spc="-1" strike="noStrike">
                <a:solidFill>
                  <a:srgbClr val="faf400"/>
                </a:solidFill>
                <a:latin typeface="Comic Sans MS"/>
              </a:rPr>
              <a:t>into human w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581280"/>
            <a:ext cx="2819160" cy="457200"/>
          </a:xfrm>
          <a:prstGeom prst="rect">
            <a:avLst/>
          </a:prstGeom>
          <a:solidFill>
            <a:srgbClr val="faf4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59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Human is infec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1752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753160" y="3467160"/>
            <a:ext cx="2133360" cy="838080"/>
          </a:xfrm>
          <a:prstGeom prst="rightArrow">
            <a:avLst>
              <a:gd name="adj1" fmla="val 50000"/>
              <a:gd name="adj2" fmla="val 63638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037760" y="5181480"/>
            <a:ext cx="1143000" cy="838440"/>
          </a:xfrm>
          <a:prstGeom prst="rightArrow">
            <a:avLst>
              <a:gd name="adj1" fmla="val 50000"/>
              <a:gd name="adj2" fmla="val 34081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6200000">
            <a:off x="1943280" y="4152960"/>
            <a:ext cx="76176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>
              <a:alpha val="83000"/>
            </a:srgbClr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59364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Nosferatu"/>
              </a:rPr>
              <a:t>Medieval Art &amp; the Pl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62120" y="1712880"/>
            <a:ext cx="7696080" cy="4154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9:33:09Z</dcterms:created>
  <dc:creator>Ms. Susan M. Pojer</dc:creator>
  <dc:description/>
  <dc:language>en-US</dc:language>
  <cp:lastModifiedBy>Chris</cp:lastModifiedBy>
  <dcterms:modified xsi:type="dcterms:W3CDTF">2009-04-26T19:38:48Z</dcterms:modified>
  <cp:revision>81</cp:revision>
  <dc:subject/>
  <dc:title>The Black Death</dc:title>
</cp:coreProperties>
</file>